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627-82D8-41BC-8E3E-10130707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E9C-96E3-40A9-A367-0D6FE55D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22E-C0FF-40F6-9109-6709E48E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4C9-5C20-42EF-B423-016F4153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AE5-85CF-43AC-BB45-AD3F54B5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8725-F9F3-44E9-BC81-F2EF1A8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AAFC-9FBD-4F45-BCF4-41C16F7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D8F9-3073-42DD-BD36-B2EB9EB5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D6A9-16D8-4E6F-ABED-A4C04A1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6E86-B7D8-4FD1-99BB-62B444C4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618-F6C0-4B0E-9115-9F6E770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DC5-4E69-432B-86E0-0AB717D8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45E3-A032-4916-AE02-BF7AAFC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11ED-81D5-47C3-A300-99B9A3F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5B7-B2C0-495F-AC42-4BCC8859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319D-4130-4BB7-A396-3CC0325A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F402-2F9C-4E53-8FA5-D0FA4258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31BA-12C4-481E-B392-D2BE76C8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9F05-4219-436B-BF4D-7EA1E428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4571-16AC-4CDC-B038-D16637D0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A9614-1777-45C0-B596-520A091E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4E84-0987-47B8-96D6-9E938D06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28F-05F4-4233-9546-269E2204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36E9-A36C-4910-AED1-BE4EC3BE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1C1E-86B1-4200-8AC9-34B6B5A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D388-0E51-4545-A159-964F9E8B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135B-BA01-4FD9-9EFF-78C6DD3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0FA9-D6F1-44A2-9811-3C6CE557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EE37-33BC-4322-AF6B-0DCC054C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9095-9CB4-4F6A-A608-AC834CBA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495-CBE6-41F2-A474-243E7608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1BA-9B3B-4EF4-879E-C1A6C90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F96-5743-40BD-AECA-5FF2FA0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19B-D47F-438F-9CE8-61CD2850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24F-A1E1-4357-9EC9-4DD8FA2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D44-647E-46C2-9602-DBE0DC60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28B-57D9-429A-AA6D-C726EE3ED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227480" cy="1143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5305320"/>
            <a:ext cx="5391000" cy="15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9EF-7B5F-40B7-8488-B5372A56F8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2274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5305320"/>
            <a:ext cx="5391000" cy="15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920-A164-4D97-9819-ACB03360F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usiness Classes &amp; 1-2-1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oup the ideas into advantages &amp; disadvantages for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teacher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and disc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 – 10 tips to minimise the 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d card and discuss: Agree? Why? Do you do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 – 10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d -&gt; 30s to explain to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me homework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icle on 1-to-1s taken from “English Teaching Professional” Issue 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Which teaching context below do you prefer and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neral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siness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-2-1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ay’s s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 1 (Business English cla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ferences between BE and 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acteristics of BE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lications for approach &amp;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 2 (One to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vantages &amp; disadvantages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vantages &amp; disadvantages for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 tips to minimise 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 one-to-on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 1 (Business English cl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ferences between BE and 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aracteristics of BE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lications for approach &amp;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A) Things to think about in business clas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t clear objectives and feedback on prog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equent short-term goals &amp; end-of-the-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ive specific feedback after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What will learning X enable the student to d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ts of communicative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B) Things to think about in business clas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onsor’s v Learners’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corporate some of the sponsor’s needs into the syllabus – Highlight to DoS if problem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gular feedback on progress (esp. At higher lev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volve ALL th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i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ive achievable HW – short but of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f they really can’t – plan HW into th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C) Things to think about in business clas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xical chunks – collocations, phrases, fixed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ighlight then practise, practise, practis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ar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BLs particularly suit business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eful! Ss may not accept the “TEFL-y” w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n-native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st Ss will speak to non-natives – maybe ditch some phrasal verbs &amp; idi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 2 (One-to-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cuss the advantages &amp; disadvantages of 1-2-1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oup the ideas into advantages &amp; disadvantages for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and disc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6:48:39Z</dcterms:created>
  <dc:creator>Fiona</dc:creator>
  <dc:description/>
  <dc:language>en-US</dc:language>
  <cp:lastModifiedBy>BRoberts</cp:lastModifiedBy>
  <dcterms:modified xsi:type="dcterms:W3CDTF">2011-11-04T10:47:51Z</dcterms:modified>
  <cp:revision>37</cp:revision>
  <dc:subject/>
  <dc:title>2008-9</dc:title>
</cp:coreProperties>
</file>